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E296-3069-4120-98CF-85D174ACE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s of printing – that are covered in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6C6-8072-4268-9AA7-269321EC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F13-FDD0-4165-AABB-4DB5DCDD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58D4-AC09-45E2-BEEE-20F6AE51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198-10A1-4786-AAE8-FEE4E31A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D87-E23C-4C93-9B76-B075A142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92C-DD2E-4748-9B56-5C41BB3B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62C-C7A9-4B95-BE1D-A7AEC935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1A6-5402-4E56-8749-F2B02C1A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1A8-A7A6-4A1A-AEA3-A4571494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173-090E-434F-8871-99490523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8DD-20E6-4BD0-AF31-BB94134F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619-0643-44CB-94F8-54F91D65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E757-42DC-4C50-AA90-778295678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arhol.org/interactive/silkscreen/main.html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fornian FB"/>
              </a:rPr>
              <a:t>Print Mak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Drypoint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257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Dry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4120" y="1600200"/>
            <a:ext cx="549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Mezzot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08160" y="1600200"/>
            <a:ext cx="4925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Etching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49584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E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1530360"/>
            <a:ext cx="7315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Aquat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35440" y="1600200"/>
            <a:ext cx="3273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Lithography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77960" y="1600200"/>
            <a:ext cx="3395520" cy="218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71440" y="3938760"/>
            <a:ext cx="260856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8320" y="2314440"/>
            <a:ext cx="40384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Lith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68560" y="1600200"/>
            <a:ext cx="3205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alifornian FB"/>
                <a:hlinkClick r:id="rId1"/>
              </a:rPr>
              <a:t>Silk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84320" y="1600200"/>
            <a:ext cx="3373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Mon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3520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1220760" cy="548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68720" y="762120"/>
            <a:ext cx="2502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fornian FB"/>
              </a:rPr>
              <a:t>Art I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Hu Yichuan, </a:t>
            </a:r>
            <a:r>
              <a:rPr b="0" i="1" lang="en-US" sz="3600" spc="-1" strike="noStrike">
                <a:solidFill>
                  <a:srgbClr val="000000"/>
                </a:solidFill>
                <a:latin typeface="Californian FB"/>
              </a:rPr>
              <a:t>To The Front</a:t>
            </a: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, 1932, Expressio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4444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Goya, </a:t>
            </a:r>
            <a:r>
              <a:rPr b="0" i="1" lang="en-US" sz="3600" spc="-1" strike="noStrike">
                <a:solidFill>
                  <a:srgbClr val="000000"/>
                </a:solidFill>
                <a:latin typeface="Californian FB"/>
              </a:rPr>
              <a:t>Hasta la Muerte (Until Death)</a:t>
            </a: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, 1797-98, Roman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971800" y="426960"/>
            <a:ext cx="309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Clemente, </a:t>
            </a:r>
            <a:r>
              <a:rPr b="0" i="1" lang="en-US" sz="3600" spc="-1" strike="noStrike">
                <a:solidFill>
                  <a:srgbClr val="000000"/>
                </a:solidFill>
                <a:latin typeface="Californian FB"/>
              </a:rPr>
              <a:t>Untitled (Self Portrait)</a:t>
            </a: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, no date, Mod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13576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fornian FB"/>
              </a:rPr>
              <a:t>Guess the meth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420048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80960" y="1076400"/>
            <a:ext cx="63820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95480" y="685800"/>
            <a:ext cx="3348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81280" y="274680"/>
            <a:ext cx="3780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Real Lif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General Prin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90600" y="2023920"/>
            <a:ext cx="47628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Rel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3440" y="1600200"/>
            <a:ext cx="3595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Wood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33560" y="1600200"/>
            <a:ext cx="707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Woodblock Print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90600" y="2281320"/>
            <a:ext cx="4762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Woodcu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444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Lino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92080" y="1600200"/>
            <a:ext cx="7359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Engraving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0600" y="1947960"/>
            <a:ext cx="47628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21:37:09Z</dcterms:created>
  <dc:creator>Authorized User</dc:creator>
  <dc:description/>
  <dc:language>en-US</dc:language>
  <cp:lastModifiedBy>Sheila</cp:lastModifiedBy>
  <dcterms:modified xsi:type="dcterms:W3CDTF">2005-05-22T01:38:12Z</dcterms:modified>
  <cp:revision>24</cp:revision>
  <dc:subject/>
  <dc:title>Chapter 8</dc:title>
</cp:coreProperties>
</file>